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97D-5148-4C27-97C2-1EBD47E2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0AD-19A2-4204-BB24-41C4FA9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0AF-6F16-4CC3-95CD-3DDEA0A2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A2B-43CB-4D25-A72C-BE0203C2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1142-647E-44B7-8ED5-34C7EBC2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BAD-01E2-4132-98C3-FE61E78C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E45-FF88-41AF-904A-7888A566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6A3-B126-47CE-BB6B-02BA4476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A7C-218C-4CD1-BF4A-C689119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66B-6EA1-4720-A438-66BB36A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5DA-D70E-482A-94CC-7F271078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3DA-8DED-4434-9347-E241389D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39FE-01B7-49EA-A149-B8A5B0FD6FD7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  <a:ea typeface="Calibri"/>
              </a:rPr>
              <a:t>PRĂJITURI CU FRIŞC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alificarea Cofetar – Patiser,  Anul de completare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oord. Cristian Dincă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14200" y="572400"/>
            <a:ext cx="86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000" y="907920"/>
            <a:ext cx="439092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ăjiturile cu frişcă sunt prăjituri cu o structură eterogenă (în ceea ce priveşte suportul), iar în componenţa lor se foloseşte o mare cantitate de frişcă. Ele se pot prezenta fie la bucată (rotunde, tronconice, sub formă de scafă, pătrate, dreptunghiulare), fie ca piese întregi, paralelipiped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structura prăjiturii, frişca bătută îndeplineşte următoarele funcţii: componentă de umplere a prăjiturii, înlocuind sau completând crema; componentă a cremei, imprimând structura afânată; compon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ent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corare; furnizoare de factori nutritiv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hnologia prăjiturilor cu frişcă este variată, dar se impune respectarea următoarelor cerinţe: indiferent de funcţie, frişca se foloseşte bătută, iar baterea se face în momentul utilizării; dacă este o componentă a cremei, frişca trebuie însoţită de gelatină care are rolul de a stabiliza structura spumoasă; dacă este utilizată la decorare, se va turna cu puţin timp înaintea expedierii spre vânzare, cu poşul cu spriţ mare (pentru a evita eliminarea aerului şi a umidităţii prin presarea intensă a poşului)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treaga structură a prăjiturilor cu frişcă este un concentrat de factori nutritivi cu valoare biologică mare, proteine complete, lipide emulsionate, vitaminele liposolubile A şi D, substanţe minerale (Ca, P, Fe) glucide si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rişca bătută, element de bază, participă la întregirea sau echilibrarea valorii alimentare a prăjituril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frişc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39640" y="260280"/>
            <a:ext cx="8353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comp_i"/>
          <p:cNvPicPr/>
          <p:nvPr/>
        </p:nvPicPr>
        <p:blipFill>
          <a:blip r:embed="rId1"/>
          <a:stretch/>
        </p:blipFill>
        <p:spPr>
          <a:xfrm>
            <a:off x="5508720" y="1557360"/>
            <a:ext cx="2676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ăjituri cu frişcă cu su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ataif – cataif cu frişcă. Operaţii pregătitoa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cataifului cru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siropului [...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gătirea cataifului însiropat [...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aluat dospit – Savarin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pararea aluatului dospi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orţionarea aluatului în forme pentru savarine unse uşor cu ule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ospirea finală, coacerea la foc potrivit, scoaterea în stare caldă, răcirea. [...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coji indiene – Indiene cu frişcă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formizarea cojilor şi împerecherea lo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luidizarea fondantulu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mparea şi glasarea suprafeţei bombate pentru jumătate din numărul cojilor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 pişcoturi de şampanie – Prăjitura Diplomat. Operaţii pregătito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jumătate din cantitatea de pişcoturi se taie în două, transversal (pe lăţime), se aşază pe platou pentru a se stropi cu 1/2 din cantitatea de lichior Triple se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omogenizarea cremei şarlotă de vanilie cu răzătură de portocale şi fructe confiate asort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ăierea fructelor confiate după scurgerea de sirop, pentru decorare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39640" y="26028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telor digitale  -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5:51:42Z</dcterms:created>
  <dc:creator>CNEE</dc:creator>
  <dc:description/>
  <dc:language>en-US</dc:language>
  <cp:lastModifiedBy>Guest</cp:lastModifiedBy>
  <dcterms:modified xsi:type="dcterms:W3CDTF">2012-06-15T12:33:30Z</dcterms:modified>
  <cp:revision>29</cp:revision>
  <dc:subject/>
  <dc:title>SALARIUL</dc:title>
</cp:coreProperties>
</file>